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BE45-7B80-4E9A-B777-D00405CC3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EDDD-2EEB-4BE1-9744-116FDA27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4920-D45C-41CD-9727-B614BC80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AEB5-BF27-4596-AD39-EC30361BF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3081-7E5D-450F-8794-5C14F4C6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75EF-24AF-4184-A1D3-80819E2B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92EE-3DB2-4897-879A-AF6D6A8D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B8B4-D54E-4C0C-8EAA-948FEC81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B3C6-B2A5-41E1-BA37-6BBBE2B5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0127-1046-4DF8-9400-02B77BA8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AAA6-4A4F-429B-AC81-C2B5E766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C978-285C-4CAD-97F5-E14C88E9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2B34-2FA5-4DE9-AF4B-4641236B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A5B5-9C45-4BBB-9F82-3720AA4A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3B65-AE27-4BDA-B21D-66E065D1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B2EC-3369-458D-A1A0-7D14E881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0275-B56C-4B9C-86D5-A09DDC72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FC46-B99C-4CA7-90BD-B6800E1F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FE51-F153-4127-A12D-2A6F1155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BA62-EA02-4F52-BDA4-81D467BE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9BC9-3979-48C7-A5CA-35CA72AE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7F89-759E-4D2F-8158-32438F9A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68E7-3844-4F4C-BC47-71F492B9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795E-2859-42C1-9A2F-06AA9EF5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e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ea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91afb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7105-020D-4EC5-831C-F7732F93BE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ecea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cea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91afb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A48E-A852-452D-9BFF-BB647CB20605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TAKS Reading Process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e the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ate Prior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 and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Analyze the Task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ok over the selec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edict its type – narrative, expository or func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kim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lection for graphic design elements that indicate theme or id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k of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lationshi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etween the title, illustrations and the type se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Activate Prior Knowledge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all directly relevant facts or experi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all your prior knowledge of the type of selection, subject and vocabul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Plan and Predict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fore reading, pla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ou will read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predictions based on th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ten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inue to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la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edic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le you re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Read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eful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low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from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ginning to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rrativ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understan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ory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a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ositor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understan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ai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out top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ctional sele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urpo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document; who will use it; how is i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15f7b"/>
                </a:solidFill>
                <a:latin typeface="Tahoma"/>
              </a:rPr>
              <a:t>Use Information</a:t>
            </a:r>
            <a:endParaRPr b="0" lang="en-US" sz="4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ent summ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fore answering ques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read to look for graphic design elements to assist you with sum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, answe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umm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 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estio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r content summary does not match the questions, reread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7:43:49Z</dcterms:created>
  <dc:creator>Teresa Easterling</dc:creator>
  <dc:description/>
  <dc:language>en-US</dc:language>
  <cp:lastModifiedBy>Teresa Easterling</cp:lastModifiedBy>
  <dcterms:modified xsi:type="dcterms:W3CDTF">2008-08-01T17:59:21Z</dcterms:modified>
  <cp:revision>2</cp:revision>
  <dc:subject/>
  <dc:title>TAKS Reading Process</dc:title>
</cp:coreProperties>
</file>